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4E2E-93CB-48D5-AAB8-D2B55E7BE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00E-A410-422C-98DE-968A2B53F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5BD-8D2D-48D0-B371-068E327FB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A628-4846-49AA-BD40-A71366A37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6E0-2974-4EB4-BD56-CA449C8C4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E0AD-B5DA-4E6C-807A-11B83616B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082A-A62C-45D1-AC1F-4C54F472E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7D5F-75DC-4B65-87A2-F9E316B9E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7E1-A306-4572-B0C9-6CF3C76CB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8ED-4959-4593-AB8A-D24152383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DFB-E381-4CF4-842D-17FBE3BE4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29CE-8C34-4254-9AD7-B2FB3F641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336-F263-460E-A908-F3963E2B2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F71-D6F8-490A-B2D4-E642D33FD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AC9-9A52-4E75-99EE-FD73409D8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FE4-73FC-4081-A7C7-4897E9AD3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899-4F09-4FC4-A0E4-FAB3CF6A4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ED77-7F7F-4E17-A5EE-1EA5F89D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C0ED-D93C-4352-9FCF-CE65465F5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F7A-7361-43DC-8C83-64EA39EF3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734-C9CD-46D4-BB33-12F16534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DFC-D083-45DC-95C4-89FD61004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96A-9270-4F87-B9FD-7105929F0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5C6F-3812-4B62-982B-FBFF37545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2D5-7B33-4B55-A762-353659352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58B-1B11-4D2F-A5F9-21123F878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40B-6501-439E-8F56-CBF5B4142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A40-5D1D-4CB7-9A55-6E4F8556C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057-ACBB-4EA4-8C2D-87E4C0731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47D-CFDE-4DFD-BBB1-77F7A5276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A037-16AF-4345-BAAE-90ED32D04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CDC6-488C-45E0-8372-3324B045E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087-9A94-454D-9DB2-63B0EBBB7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68B-5A01-4BE8-BFAB-556F79BA1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812-15CB-4D57-B740-D1FD6E343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ECFC-52FC-46AE-845F-DDE574433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F36-A4C8-4B3A-8EA4-19CFD7D28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C7C-397A-4CE8-A005-13776410E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706-39F3-49B4-B284-1A48ECAD0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FB9-85C2-4BEC-9F90-1E4C96D75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9E0-0192-408C-91B4-F010C59C2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FCD5-FDB7-422C-8126-2B00CB77F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AA3-322E-40C4-A0D4-5B2A2B40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531-1802-4980-94AF-788F074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B21-349F-4803-9391-3F287C90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D8E-E525-4CF3-A795-A27987B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514-CDDA-41F8-9995-5BD6A64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9D3-C6F8-4DB7-AFAA-D8598CB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6AE-B7EE-44EB-83D8-D04DBA9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7E7-BB55-4E34-9E83-D2AFA38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5C0-4DCE-41CB-B823-FDA6C2EE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522-2970-404B-8D8F-83DA174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B1C-A4FF-4208-954E-58341FFC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0A2-F19F-455A-BD9F-EE76E69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C4E-5F8A-4622-864A-5965E8085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90D3-14FB-4A0D-894C-8D06AB341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05160"/>
            <a:ext cx="9144000" cy="661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ch question would ecologists most likely researc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point mutations effect protein synthes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aquatic plants react to pesticid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chemical structure of sucro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es color in petunias pass from parent to offspr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All of these characterize most laboratory accidents except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lessn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B. lack of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  Inappropriate behav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D. reduced risk-t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%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energy is passed between each trophi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 much more energy is found at the bottom than at the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ical Niche/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n organism’s role in the environment (birds on different parts of the t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bit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hysical location (an organism’s h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both organisms bene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W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Flowers and bees (bees get food and the flowers get to reprodu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s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one organism benefits and the other is 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Barnacles on whale (the barnacles get food and the whale does not know they are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an organism feeds off a h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Tapeworm, tick, hookworm, l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iome Brochure Friday. (Feb. 18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04560"/>
            <a:ext cx="9144000" cy="70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statement best describes an activity that will contribute to the maintenance of homeostasis in an organis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desert rattlesnake enters an underground burrow on a hot summer d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shark swims toward a highly polluted region of the oce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oots of a willow tree grow away from a moisture rich region of the soi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polar bear sheds most of its fur during the coldest months of win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. Which of the following would be the niche of decomposers in an ecosys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 down nitrogen and oxy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 down waste and dead mat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vide nutrients for carnivores to make ener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vide nutrients for omnivores to make ener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flip-fl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Multiple Choice Question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sp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own Arrow 3"/>
          <p:cNvSpPr/>
          <p:nvPr/>
        </p:nvSpPr>
        <p:spPr>
          <a:xfrm>
            <a:off x="4495680" y="51814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4495680" y="44197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5"/>
          <p:cNvSpPr/>
          <p:nvPr/>
        </p:nvSpPr>
        <p:spPr>
          <a:xfrm>
            <a:off x="4495680" y="35812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6"/>
          <p:cNvSpPr/>
          <p:nvPr/>
        </p:nvSpPr>
        <p:spPr>
          <a:xfrm>
            <a:off x="4495680" y="274320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7"/>
          <p:cNvSpPr/>
          <p:nvPr/>
        </p:nvSpPr>
        <p:spPr>
          <a:xfrm>
            <a:off x="4495680" y="19051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Quiz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Multiple Choice Question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Review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ame species, same place Ex: group of bears in my backy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different species, same place Ex: group of bears, beavers, and deer in my backy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ifferent species + abiotic factors in the same place Ex: group of bears, beavers, and deer in my backyard and the sunlight and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-similar climate conditions and characteristic plants and animals Ex: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sphere-basically the ent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cces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eries of changes made to a community after a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-starts from scr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: volcanoes and glac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econdary-starts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isting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: forest fires and hurric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hape)- the individuals in a population reproduce a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stan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st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hape)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owth slow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tops following a period of exponential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7815" r="0" b="7815"/>
          <a:stretch/>
        </p:blipFill>
        <p:spPr>
          <a:xfrm>
            <a:off x="464832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516" t="0" r="516" b="0"/>
          <a:stretch/>
        </p:blipFill>
        <p:spPr>
          <a:xfrm>
            <a:off x="45720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population shows exponential growth because of improved medicin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ing factor-something that causes population siz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: Density-dependent and density-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s on population siz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s worse as population becomes more de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sea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sit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’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iranh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depend on populatio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matter how big the populat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on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su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or-Pr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ator-prey populations mirror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d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rganism being e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67816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et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ccurs when two organisms want the same resource at the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Two lions fighting over a ze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711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logy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685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vide your paper into 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each square, draw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logistic graph (labeling axes with units and carrying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exponential graph (labeling axes with uni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food chain with pictures (labeling a producer, primary co., secondary co., and tertiary co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ecological pyramid (labeling a producer, primary co., secondary co., and tertiary co. and starting with 5000 joules of energy at the botto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676440"/>
            <a:ext cx="9144000" cy="63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Which of these statements is NOT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rocess of succession resulting in a climax community always happens within one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condary succession happens in areas where organisms previously liv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ary succession occurs when communities populate barren 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cological change does not always equate with de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The carrying capacity of a given environment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pendent up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ycling of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 The availability of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fo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D. Daily temperature fluct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Word Scra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“Qui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cology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=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divers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total of the genetically based variety of all organisms in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572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activity can reduce biodiversity by causing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ildlife Product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ollution (DD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as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41911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hael Barron of the National Park Service took this picture of a carcass of an alligator as it protrudes out from the body of a dead Burmese python in Everglades National Park, Florida. The Burmese python is an invasive species -- 144,000 have been imported to the U.S. in the past five years for the pet tra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5486400" cy="393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5105520" y="0"/>
            <a:ext cx="215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i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hen a species disappears from all or part of it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angered species-a species whose population size places it in danger of ex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ser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the wise management of natural resources including the preservation of habitats and wild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-the atmosphere between 20-50 km above Earth’s surface and protects the Earth from harmful UV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diation causes sunburn and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s in the Ozone layer have been discovered above Antarctica.  These holes were ca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F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chlorofluorocarbons found in aerosol cans and refrig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in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tro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oducer)-makes its own food must rely on itself to get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terotro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onsumer)-cannot makes its own food must rely on other organisms for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reenho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ffect-where radiation produced by the atmosphere warms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arm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increase the average temperature of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: 1. melting polar ice 2. increased carbon dioxide levels due to burning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s: 1. rise in sea levels (flooding) 2. increase in global temperature 3. Organisms go exti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processes get water from the earth into the ai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 and 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as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primary consu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autotrop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arbon from the air is made into organic compounds through which pro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terotro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bivore-eats plants Ex: de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nivore-eats meat Ex: wo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nivore-eats both plants and meat Ex: hum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omposer-breaks down organic material to get energy Ex: Fung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caveng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eats organisms that are already dead Ex: v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e in the overall global temperature is called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udy hard and smart ton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f there is no struggle, there is no prog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Who said that?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MBRACE THE STRUGGL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304560"/>
            <a:ext cx="9144000" cy="70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epidemic of black plague hit Europe in the 17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entury and killed many people in the urban areas but not as many in rural areas. What type of limiting factor is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. Density independen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. density 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. Competition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. pred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ottom layer of the pyramid can be described 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eterotrophs, producers, small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producers, largest amount of energy, small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consumers, larg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producers, larg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086600" y="1407960"/>
            <a:ext cx="20574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4 Work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541440"/>
            <a:ext cx="9144000" cy="71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sentence best states the importance of using control group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provide a method by which statistical variability can be reduc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allow comparison between subjects receiving a treatment and those receiving no treat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eliminate the need for statistical tests and simplify calcul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eliminate the need for large sample sizes, reducing the number of measurement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 country that has a stable population is characterized by an age structure that is____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post-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ut the same among al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pre-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urney to Planet Earth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T Letter to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ff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s carbon dioxide and energy to produce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oxygen and energy to produce carbon diox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ioxide is also released while bur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ssil fue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anspir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itrog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eaning they can bring it out of the air into a form the plants can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du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plant roots contain this nitrogen fixing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cteria on the roots get nourishment and the plants get nitroge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TU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Rabbi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Snake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Hawk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r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Primary Consumer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Consumer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tiary Consu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Herbivore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Carnivore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Carniv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Heterotroph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Heter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Heterotro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2:11:34Z</dcterms:created>
  <dc:creator/>
  <dc:description/>
  <dc:language>en-US</dc:language>
  <cp:lastModifiedBy>Angela Gorney</cp:lastModifiedBy>
  <dcterms:modified xsi:type="dcterms:W3CDTF">2011-02-18T15:43:04Z</dcterms:modified>
  <cp:revision>9</cp:revision>
  <dc:subject/>
  <dc:title>Warm-Up / EOC Prep</dc:title>
</cp:coreProperties>
</file>